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4F6-E8F0-442B-945F-132A96AF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58F-4856-4863-8AA4-78412B4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FAD-09B9-4CFB-95AD-41956D4B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B06-B235-445D-A691-D2FC9D91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3D6-9AEA-4BEA-A583-790C602C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9C2-48F3-4FD3-95FA-597A705E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480-3FB1-486A-90E7-2577F6A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6EB-57BF-4B11-AE2E-B4F9BF6A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77E-E125-43C3-A697-46E9E63B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603-7FBC-4E57-87EC-98976E4E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909-D712-4EAA-968E-8E020497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CB6-4D6E-47F9-A96B-E5BCC22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050C-07F7-4D18-99A3-98F2FB989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5.xml"/><Relationship Id="rId17" Type="http://schemas.openxmlformats.org/officeDocument/2006/relationships/slide" Target="slide30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" Target="slide31.xml"/><Relationship Id="rId23" Type="http://schemas.openxmlformats.org/officeDocument/2006/relationships/slide" Target="slide12.xml"/><Relationship Id="rId24" Type="http://schemas.openxmlformats.org/officeDocument/2006/relationships/slide" Target="slide17.xml"/><Relationship Id="rId25" Type="http://schemas.openxmlformats.org/officeDocument/2006/relationships/slide" Target="slide22.xml"/><Relationship Id="rId26" Type="http://schemas.openxmlformats.org/officeDocument/2006/relationships/slide" Target="slide27.xml"/><Relationship Id="rId27" Type="http://schemas.openxmlformats.org/officeDocument/2006/relationships/slide" Target="slide32.xml"/><Relationship Id="rId28" Type="http://schemas.openxmlformats.org/officeDocument/2006/relationships/slide" Target="slide13.xml"/><Relationship Id="rId29" Type="http://schemas.openxmlformats.org/officeDocument/2006/relationships/slide" Target="slide18.xml"/><Relationship Id="rId30" Type="http://schemas.openxmlformats.org/officeDocument/2006/relationships/slide" Target="slide23.xml"/><Relationship Id="rId31" Type="http://schemas.openxmlformats.org/officeDocument/2006/relationships/slide" Target="slide28.xml"/><Relationship Id="rId32" Type="http://schemas.openxmlformats.org/officeDocument/2006/relationships/slide" Target="slide33.xml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380880"/>
            <a:ext cx="6477120" cy="247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5560">
                  <a:solidFill>
                    <a:srgbClr val="000000"/>
                  </a:solidFill>
                  <a:miter/>
                </a:ln>
                <a:noFill/>
                <a:latin typeface="Poor Richard"/>
              </a:rPr>
              <a:t>Tuck Trivia!</a:t>
            </a:r>
            <a:endParaRPr b="0" lang="en-US" sz="4400" spc="1" strike="noStrike">
              <a:ln w="25560">
                <a:solidFill>
                  <a:srgbClr val="000000"/>
                </a:solidFill>
                <a:miter/>
              </a:ln>
              <a:noFill/>
              <a:latin typeface="Poor Richard"/>
              <a:ea typeface="Poor Richard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has it been since Angus Tuck last changed in appearanc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7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Angus carve into the side of the tree with the sp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es Angus make sure that the Tucks are going to live fore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572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hoots himself with hi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uck say at the end of the story to the toad, that was iron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n thing must think it’s go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to live forev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piece of jewelry does Mae wear when she leaves to meet Miles and Jes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roo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ae own that makes a song/no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usic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ae hit the stranger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’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does the constable say that Mae might d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ll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Mae think about living forever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42670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thinks that what’s done is done, and that there’s no use fussing over 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iles normally work 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lack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762120"/>
            <a:ext cx="5486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based on the book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29528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uck Everlasting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7920" y="1905120"/>
            <a:ext cx="55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by Natalie Babbit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5715000"/>
            <a:ext cx="899172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his game was created by Sal DeFrancesc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3880" y="2286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his game i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 ______ years Miles and Jesse come back ho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es Miles let the fish he caught swim a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let it go because Winnie didn’t want to see the fish d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id Miles’s family leave him and how many children did he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41911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left because Miles wasn’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ing in appearance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he had two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ound does Miles use to cover up the noise of the b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excuse does Jesse use to make sure that Winnie didn’t drink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380988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that since the water came up from the ground, it was probably dirty and bad for your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1676520"/>
            <a:ext cx="60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old is Jesse when he meets Winnie? (Hint: Both ages. The age he’s stuck at and the age he would be if he didn’t drink the wate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ck: 17                               Didn’t Drink Water: 1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1676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Jesse fall in lov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nie F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what age does Jesse want Winnie to drink the bottle of special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happened to Jesse that would have broken his neck, but didn’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l out of a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he stranger’s appearance remind Winnie abou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bbons at her grandpa’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175248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innie Fos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Tuck Everlasting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9907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91720" y="990720"/>
            <a:ext cx="152280" cy="586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17524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gus 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19520"/>
            <a:ext cx="1752480" cy="97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ae Tuc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9880"/>
            <a:ext cx="17524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les Tu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80060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842080"/>
            <a:ext cx="17524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tran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91320"/>
            <a:ext cx="17524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8006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733920"/>
            <a:ext cx="17524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7432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9051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8195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80988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8769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86728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2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name of the type of deal that the stranger made with the Fos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ackma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he stranger get hit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’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s the stranger related to Miles wife and ki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ranger’s grandmother was friends with Mile’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 stranger plan to do with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l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 rot="20461200">
            <a:off x="272880" y="1803240"/>
            <a:ext cx="8848800" cy="33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7175e"/>
                    </a:gs>
                  </a:gsLst>
                  <a:path path="rect">
                    <a:fillToRect l="50000" t="50000" r="50000" b="50000"/>
                  </a:path>
                </a:gradFill>
                <a:latin typeface="Poor Richard"/>
              </a:rPr>
              <a:t>Thank You For Playing Tuck Trivia!</a:t>
            </a:r>
            <a:endParaRPr b="0" lang="en-US" sz="4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17175e"/>
                  </a:gs>
                </a:gsLst>
                <a:path path="rect">
                  <a:fillToRect l="50000" t="50000" r="50000" b="50000"/>
                </a:path>
              </a:gradFill>
              <a:latin typeface="Poor Richard"/>
              <a:ea typeface="Poor Richard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324480" y="2362320"/>
            <a:ext cx="2590920" cy="12952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Winnie see in the clearing, next to a t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7315200" y="548640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old is Winnie when she meets the Tu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7315200" y="548640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Winnie begin to fall in lov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Winnie do with the bottle of special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pours it onto the t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167652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Angus and Mae go back to Treegap, how long had it been since Winnie had died?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(Hint: In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one word that describes Angus Tuck the most?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Hint: Synonym of S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21:25:31Z</dcterms:created>
  <dc:creator> </dc:creator>
  <dc:description/>
  <dc:language>en-US</dc:language>
  <cp:lastModifiedBy>Elizabeth</cp:lastModifiedBy>
  <dcterms:modified xsi:type="dcterms:W3CDTF">2010-01-02T20:32:45Z</dcterms:modified>
  <cp:revision>23</cp:revision>
  <dc:subject/>
  <dc:title>PowerPoint Presentation</dc:title>
</cp:coreProperties>
</file>